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png" ContentType="image/png"/>
  <Override PartName="/ppt/media/image17.png" ContentType="image/png"/>
  <Override PartName="/ppt/media/image4.jpeg" ContentType="image/jpeg"/>
  <Override PartName="/ppt/media/image8.gif" ContentType="image/gif"/>
  <Override PartName="/ppt/media/image16.png" ContentType="image/png"/>
  <Override PartName="/ppt/media/image14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796D-CB1E-495C-B239-AFA5242C9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D314-6413-4981-BCCC-FD1303AB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C04A-2BA0-408B-B76D-0DF23856B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3999-45F1-49A3-B4D2-7F02B1757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903F-B7CC-447B-86C5-A385F0017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0416-5069-42C9-90FC-947C9A7C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245C-9C7C-4299-AC0F-70A2F309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A5E16-7814-4B9B-BEC1-71C21A76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CFD9-39DA-451C-A22D-B9DBCE1A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66309-E76E-4438-B811-2DF05DB0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577A-3A8E-4D7A-94D5-71DA7A20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CF63-B881-4039-B8E0-1113FAFA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25F38-E265-4ABA-9214-87DE94C7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FA7D5-1A59-437D-991E-C89282A7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5B54-321F-4522-9C59-79E21FD2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A2C76-8B20-4679-8C12-BC09D838E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DD10D-AAB2-4D0A-9CD5-6A786B3A4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F826-5ADD-4DE2-A09A-A2A1A6F5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AE16-818C-481E-83C7-40F21A22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5AA6-02E1-434F-B227-D47EF15D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CE71-6AC2-457C-BC20-A4526DE5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5D0B-570A-4EAF-AF75-EC263C8D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6E26-5469-4F52-BB1B-AD9DA7F3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9DEC-7251-4E7C-A27A-5CAB9E25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A76F-4E90-4958-B855-FDB17C005B0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576E-A127-474F-BC67-04F4648BDCD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online.cctt.org/physicslab/content/Phy1/lessonnotes/atomic/atomicmodelsandspectra.asp" TargetMode="External"/><Relationship Id="rId2" Type="http://schemas.openxmlformats.org/officeDocument/2006/relationships/hyperlink" Target="http://micro.magnet.fsu.edu/electromag/java/rutherford/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ip.org/history/electron/jjappara.htm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hapter 4/25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omic Struc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clear Chemi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Nucleus Exists!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11- Ernest Rutherford uses the gold foil experiment to “discover” the nucle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114800" y="2266920"/>
            <a:ext cx="502920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Gold Foil Experimen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1722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Results of Gold Foil Experiment…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online.cctt.org/physicslab/content/Phy1/lessonnotes/atomic/atomicmodelsandspectra.as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http://micro.magnet.fsu.edu/electromag/java/rutherford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ver 98% of the particles went straight throug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bout 2% of the particles went through but were deflected by large angl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bout 0.01% of the particles bounced off the gold foi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utherford’s Conclus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066320" y="1981080"/>
            <a:ext cx="7543800" cy="41148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066680" y="1905120"/>
            <a:ext cx="754380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Rutherford's Nuclear Model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040" y="685440"/>
            <a:ext cx="7543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. The atom contains a tiny dense center called the nucleu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volume is about 1/10 trillionth the volume of the atom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. The nucleus is essentially the entire mass of the at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3. The nucleus is positively charg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amount of positive charge of the nucleus balances the negative charge of the electr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4. The electrons move around in the empty space of the atom surrounding the nucle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worker James Chadwick later adds neu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Understanding Periodic Block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9.098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4482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omic Nu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# of prot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ment Symb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s Nu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tons + Neutr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2666880" y="3504960"/>
            <a:ext cx="2438640" cy="1904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2362320" y="2742840"/>
            <a:ext cx="274320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2362320" y="2286000"/>
            <a:ext cx="2743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an 20.0983 Neutrons Exist??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, 39.0983 is an average mass of all natural K at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K atoms MUST have 19 prot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have 20 neutrons, some 19, some 21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erage is 20.0983 neu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ividual isotopes are identified by the number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neu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dentifying Protons, Neutrons, and Electr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lorine-35 (element-mass numb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 of protons = 1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 electrons = # prot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 neutrons = mass number – prot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5-17 = 1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 no electrons in atomic mas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on has mass 1/1837 of Proton and Neutr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395360" indent="-49032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Nuclear symbol nota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nuclide symbol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766520" indent="-40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ample: 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27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13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   or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27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66520" indent="-40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# protons =    ______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66520" indent="-40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# neutrons =  ______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66520" indent="-40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# electrons =  ______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395360" indent="-49032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blems that ari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766520" indent="-40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Charges and Ion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only changes the number of electrons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66520" indent="-40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Finding mass numbe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use symbol, # p+ and n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or periodic table IN THAT ORDER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tomic Mass Uni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bon-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 prot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 neu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amu = 1/12 mass of a C-12 at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 Long, Long Time Ago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eek Philosophers- 4 elements are Earth, Water, Fire, and A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istotle- first recorded atomic though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tter is continuous (no atom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mocritus (400 B.C.) - first recorded atomic the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oms are smallest part of matter, each type of matter has different ato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Nuclear Stability- too many neutrons or protons causes instability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9" name="" descr="nstability.jpg (45085 bytes)"/>
          <p:cNvPicPr/>
          <p:nvPr/>
        </p:nvPicPr>
        <p:blipFill>
          <a:blip r:embed="rId1"/>
          <a:srcRect l="15119" t="9927" r="16082" b="0"/>
          <a:stretch/>
        </p:blipFill>
        <p:spPr>
          <a:xfrm>
            <a:off x="1219320" y="1981080"/>
            <a:ext cx="64767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hemical vs. Nuclear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2" marL="1282680" indent="-45072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hemical Chang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produces new kinds of matter with new proper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23600" indent="-3754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volves breaking and forming BON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23600" indent="-3754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complished by rearrangement of ELECTR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82680" indent="-45072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Nuclear Chang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produces a new nucleus that contains less ener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23600" indent="-3754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volves emission or capture of nuclear partic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23600" indent="-3754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complished by changing PROTONS and NEUTRONS in nucle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Nuclear Deca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clear Partic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pha- rapidly moving He nuclei with a (+) char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a – rapidly moving electrons with a (-) char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mma – rapidly moving electromagnetic radiation with no mass or char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686640" y="5052960"/>
            <a:ext cx="22287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57880" y="5052960"/>
            <a:ext cx="22287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5052960"/>
            <a:ext cx="25527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5052960"/>
            <a:ext cx="19051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ual Haz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86640" y="4108320"/>
            <a:ext cx="22287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w-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57880" y="4108320"/>
            <a:ext cx="22287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05120" y="4108320"/>
            <a:ext cx="25527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4108320"/>
            <a:ext cx="19051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ological Haz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686640" y="3297240"/>
            <a:ext cx="222876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457880" y="3297240"/>
            <a:ext cx="222876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05120" y="3297240"/>
            <a:ext cx="255276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297240"/>
            <a:ext cx="190512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86640" y="1925640"/>
            <a:ext cx="2228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rd (2 cm lea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57880" y="1925640"/>
            <a:ext cx="2228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ium (aluminum foi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05120" y="1925640"/>
            <a:ext cx="2552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s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skin/cloth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1925640"/>
            <a:ext cx="1905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iel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86640" y="1116000"/>
            <a:ext cx="222876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57880" y="1116000"/>
            <a:ext cx="222876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-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05120" y="1116000"/>
            <a:ext cx="255276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116000"/>
            <a:ext cx="19051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686640" y="304920"/>
            <a:ext cx="222876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MMA (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γ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457880" y="304920"/>
            <a:ext cx="222876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A (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05120" y="304920"/>
            <a:ext cx="255276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PHA (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α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04920"/>
            <a:ext cx="190512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04920"/>
            <a:ext cx="891540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116000"/>
            <a:ext cx="8915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925640"/>
            <a:ext cx="8915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3297240"/>
            <a:ext cx="8915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4108320"/>
            <a:ext cx="8915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5997600"/>
            <a:ext cx="891540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04920"/>
            <a:ext cx="0" cy="569268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905120" y="304920"/>
            <a:ext cx="0" cy="5692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57880" y="304920"/>
            <a:ext cx="0" cy="5692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686640" y="304920"/>
            <a:ext cx="0" cy="5692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915400" y="304920"/>
            <a:ext cx="0" cy="569268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5052960"/>
            <a:ext cx="8915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ther Radi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640080" indent="-640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onizing Radiation- has significant energy to change atoms and molecules into 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730880" indent="-40032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ypes: alpha, beta, gamma, x-ray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730880" indent="-40032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ffects to living organisms: changes in, DNA (cell death/cancer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7308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40080" indent="-640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nionizing radiation- does not have significant energy to ionize atoms or molecules (types: microwaves, visible light, radiowav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Nuclear Reac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35000" indent="-5778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mutation- Changing the nucleus of the atom to create a new el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035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035000" indent="-5778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is a Nuclear Equation Writt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409760" indent="-49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ent nuclide- initial nucleus that undergoes chang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409760" indent="-49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ughter nuclide- nucleus resulting from decay of par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ypes of Nuclear Reac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pha Emission- generally occurs if nucleus has too many protons and neu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60240" indent="-6602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a Emission- results from conversion of neutron to proton and occurs if nucleus has too many neu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60240" indent="-6602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itron Emission- results from conversion of proton to neutron and occurs if nucleus has too few neu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60240" indent="-6602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mma Emission- often accompanies other decay process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xample: Alpha Deca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52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99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______    +   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aeaea"/>
                </a:solidFill>
                <a:latin typeface="Tahoma"/>
              </a:rPr>
              <a:t>Radioactive Decay </a:t>
            </a:r>
            <a:br>
              <a:rPr sz="4000"/>
            </a:br>
            <a:r>
              <a:rPr b="0" i="1" lang="en-US" sz="4000" spc="-1" strike="noStrike">
                <a:solidFill>
                  <a:srgbClr val="eaeaea"/>
                </a:solidFill>
                <a:latin typeface="Tahoma"/>
              </a:rPr>
              <a:t>Half-lives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2640" y="2209680"/>
            <a:ext cx="62485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lf-life is the time taken for half of the atoms of a radio-active substance to deca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914400" y="3886200"/>
            <a:ext cx="822960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</a:rPr>
              <a:t>Half-lif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9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lf-lives can range from a millionth of a second to millions of ye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5257800" y="228600"/>
            <a:ext cx="34830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ristotle and Democritu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22200" y="1981080"/>
            <a:ext cx="3383280" cy="4114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070600" y="1981080"/>
            <a:ext cx="3382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acti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half-life of Zn-71 is 2.4 minutes. If one had 100.0 g at the beginning, how many grams would be left after 7.2 minutes has elapsed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rmium-253 has a half-life of 0.334 seconds. If a radioactive sample is considered to be completely decayed after 10 half-lives. How much time will elapse for this sample to be considered gon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aeaea"/>
                </a:solidFill>
                <a:uFillTx/>
                <a:latin typeface="Tahoma"/>
              </a:rPr>
              <a:t>Radioactive Datin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s carbon-14 to tell age of fossi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409760" indent="-49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-14 is present constantly in atmosphe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409760" indent="-49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5.3 decays/min in living organis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409760" indent="-49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cays/min decreases by ½ every 5730 years an organism is dea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409760" indent="-49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ly useful to 60,000 yrs ag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aeaea"/>
                </a:solidFill>
                <a:uFillTx/>
                <a:latin typeface="Tahoma"/>
              </a:rPr>
              <a:t>Trac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dioactive isotopes used to track pathwa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409760" indent="-49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emistry/biology- pathways of reac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409760" indent="-49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ustry and environment- path of groundwater, durability of contain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409760" indent="-4953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dicine- diagnose malfunction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Nuclear Reactions for Energy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ssion- nucleus broken into 2 smaller nucle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sion- smaller nuclei join to form a larger, more stable nucle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eactants and Produc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ssion-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9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235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 fuel used in a chain rea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mited resour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ritical mass- minimum mass to sustain chain rea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isk of runaway chain rea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duces radioactive waste produc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sposal concer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action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sion-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 and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 used as fu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tracted from sea wa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t a chain rea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 risk of runaway reactio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nradioactive waste: helium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Problem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eds temp of 200 Million 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action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48765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07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Nuclear Power- 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generated by a controlled </a:t>
            </a:r>
            <a:r>
              <a:rPr b="1" lang="en-US" sz="4000" spc="-1" strike="noStrike" u="sng">
                <a:solidFill>
                  <a:srgbClr val="eaeaea"/>
                </a:solidFill>
                <a:uFillTx/>
                <a:latin typeface="Tahoma"/>
              </a:rPr>
              <a:t>fission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chain reactio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3580920"/>
            <a:ext cx="36957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rol rods- absorb neutrons to slow the chain rea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7800" indent="-577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de of cadmi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7800" indent="-577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erted or withdrawn to keep temp of reaction stea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257800" y="3505320"/>
            <a:ext cx="3695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80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derators- slow neutrons down so they DO hit uranium fuel rod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80240" indent="-4802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de of water, beryllium, or graphi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80240" indent="-48024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nded to allow neutrons to be absorbed by uranium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486400" y="304920"/>
            <a:ext cx="32670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oling and Shielding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ter- acts as a coolant and transfers heat between reactor and turbines that produce electric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el &amp; concrete- surround core and protect personnel by absorbing radiatio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88390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Nuclear Meltdowns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erynobyl (Soviet Union, 1986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52560" indent="-49536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unaway fission reaction from core meltdow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52560" indent="-49536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adiation escaped to atmosphe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52560" indent="-49536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1 dead, estimated 15,000 cancer deaths in next 50 yea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ree Mile Island (Pennsylvania, 1979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rtial meltdow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tained before widespread damag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75438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 Long Time Ago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oine Lavoisier (178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d experiments in closed containers to develop the LC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seph Proust (1799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alyzed water to develop the Law of Definite Propor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hn Dalton (180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iled past research to develop the first useful atomic theo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avoisier and Prous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3554640" cy="4800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572000" y="1828800"/>
            <a:ext cx="38592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John Dalt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lton’s theory had 4 major tene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l matter is composed of ato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oms are indivisi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oms of 1 element are alike, but different from those of other ele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oms combine in small, whole number ratios to form compoun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52680" y="2232000"/>
            <a:ext cx="272412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 Reminder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servation, Observation, Observ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ear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ypothe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eriment, Revise hypothesis lots of ti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ults match….may become a the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 Little While Ago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897- J.J. Thomson discovers the electron using a cathode ray tub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6000"/>
          </a:blip>
          <a:stretch/>
        </p:blipFill>
        <p:spPr>
          <a:xfrm>
            <a:off x="304920" y="2590920"/>
            <a:ext cx="4952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Cathode Ray Tube Experiment</a:t>
            </a:r>
            <a:br>
              <a:rPr sz="4000"/>
            </a:br>
            <a:r>
              <a:rPr b="1" lang="en-US" sz="24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www.aip.org/history/electron/jjappara.htm</a:t>
            </a:r>
            <a:br>
              <a:rPr sz="2400"/>
            </a:b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066320" y="1981080"/>
            <a:ext cx="7543800" cy="4114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371600" y="2133720"/>
            <a:ext cx="72388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21:56:12Z</dcterms:created>
  <dc:creator>cmichene</dc:creator>
  <dc:description/>
  <dc:language>en-US</dc:language>
  <cp:lastModifiedBy>udsd</cp:lastModifiedBy>
  <dcterms:modified xsi:type="dcterms:W3CDTF">2008-10-28T17:32:13Z</dcterms:modified>
  <cp:revision>52</cp:revision>
  <dc:subject/>
  <dc:title>Chapter 2</dc:title>
</cp:coreProperties>
</file>